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F96-ED9A-4954-9CF3-8D5C3CD6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422-B878-441F-960E-A912D1FB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3A8-5D15-4255-AB30-C8AFB250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9CC-42A5-4845-BCD7-FEBEE9EF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1D4-AD74-43B4-9F2A-BBE8ED84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8D9-C7D5-4561-BE2C-21276937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2E0-9B22-48C4-AF31-7486B9D7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A7B-56EA-4614-B463-4C212923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23E-0255-4A9C-94B5-C0030541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36D-F8F5-46F2-8181-04187B74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25E-B490-4970-8E66-95004F8A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06D-A863-4B03-847E-DA37E2F8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6943-022E-40FF-BFD3-FC19DE0D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7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143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types of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ion 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hemical change in which two or more substances react to form a single new sub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3623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EX:  2Mg   + 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M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743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 Group A metal and a nonmetal react, product is a compound consisting of the metal cation and the nonmetal 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962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two nonmetals react in a combo reaction, more than one product i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4648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when a transition metal and a nonmetal react more than one product is also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emical change in which an element or a compound reacts with oxygen is called a _________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u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re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rShape1"/>
          <p:cNvSpPr/>
          <p:nvPr/>
        </p:nvSpPr>
        <p:spPr>
          <a:xfrm>
            <a:off x="1133640" y="2027160"/>
            <a:ext cx="1514160" cy="365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omposition 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hemical change in which a single compound breaks down into a two or more simpler produc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828800"/>
            <a:ext cx="6858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HgO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Hg  +  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involve only one reac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895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gle-Replacement 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hemical change in which one element replaced a second element in a 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8098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2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H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KO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3434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both reactants and products consist of of an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can one reactive metal displace another met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19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Yes, if the first reactive metal is higher up the activity series.  (see page 3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uble-replacement 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hemical change involving the exchange of positive ions between two compoun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971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sometimes called double-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for these type to occur one of the following is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8862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One of the products is only slightly soluble and precipitates from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648320"/>
            <a:ext cx="678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(aq)  +  Cd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dS(s)  +  2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762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One of the products is a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143000"/>
            <a:ext cx="72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aCN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HCN(g) +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One product is a molecular compound such as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828800"/>
            <a:ext cx="701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 +  2HCl(a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09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ustion reaction:  chemical change in which an element or a compound reacts with oxy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971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this often produces energy in the form of heat an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505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other reactant is hydrocarbon (hydrogen + carb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038480"/>
            <a:ext cx="701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5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8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44956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reason why methane, propane, butane are important fuels (hydrocarb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quat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TPChart"/>
          <p:cNvGraphicFramePr/>
          <p:nvPr/>
        </p:nvGraphicFramePr>
        <p:xfrm>
          <a:off x="533520" y="1841400"/>
          <a:ext cx="8153280" cy="21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1400"/>
                    <a:ext cx="8153280" cy="21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chemical re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how to write chemical form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directions for naming chemical com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only biologic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rShape1"/>
          <p:cNvSpPr/>
          <p:nvPr/>
        </p:nvSpPr>
        <p:spPr>
          <a:xfrm>
            <a:off x="1224000" y="2098800"/>
            <a:ext cx="216000" cy="2156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hemical equation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rShape1"/>
          <p:cNvSpPr/>
          <p:nvPr/>
        </p:nvSpPr>
        <p:spPr>
          <a:xfrm>
            <a:off x="2438280" y="2743200"/>
            <a:ext cx="25416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coefficients that will balance the equatio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1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3,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 1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3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rShape1"/>
          <p:cNvSpPr/>
          <p:nvPr/>
        </p:nvSpPr>
        <p:spPr>
          <a:xfrm rot="10800000">
            <a:off x="2285640" y="34286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double replacement reaction, the 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533520" y="1841400"/>
          <a:ext cx="873756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1400"/>
                    <a:ext cx="873756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re always 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s are two ionic com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s are two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are a new element and a new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rShape1"/>
          <p:cNvSpPr/>
          <p:nvPr/>
        </p:nvSpPr>
        <p:spPr>
          <a:xfrm>
            <a:off x="1752480" y="2514600"/>
            <a:ext cx="216000" cy="21600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ction 2Fe + 3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xample of which type of rea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u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rShape1"/>
          <p:cNvSpPr/>
          <p:nvPr/>
        </p:nvSpPr>
        <p:spPr>
          <a:xfrm>
            <a:off x="3124080" y="2743200"/>
            <a:ext cx="254160" cy="2541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23:28:07Z</dcterms:created>
  <dc:creator>jpak</dc:creator>
  <dc:description/>
  <dc:language>en-US</dc:language>
  <cp:lastModifiedBy>Customer</cp:lastModifiedBy>
  <dcterms:modified xsi:type="dcterms:W3CDTF">2010-01-11T16:04:48Z</dcterms:modified>
  <cp:revision>20</cp:revision>
  <dc:subject/>
  <dc:title>Note Guide 7-2</dc:title>
</cp:coreProperties>
</file>